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12B-80AC-4316-BDD6-3A0F7ED2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FC2-3AAC-45B7-A6E6-4FC6DD2D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144-3D5A-41DA-AC07-E21755E4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7D4-4B47-41BC-B4DD-0A9A41CF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30F-D514-413F-83CF-A1A4A15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CB3-97F2-424E-853D-7D8086B2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F8D-9763-4BAF-A835-6EB74943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8B1-0EA7-4768-9918-71E53D82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BDF-697E-4636-867A-A03B65B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EF6-B578-47D6-B9BE-9D28BDA2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43D-421D-4CE9-9D54-1333E5F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8BB-E3CD-4F56-AAEF-B8886CFB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4A7-B1AA-4A23-BCEE-E24059B5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447920" y="28954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981080" y="28195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rl cou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5120" y="28954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f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5120" y="28954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y cou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sb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447920" y="83808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le-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in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a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82880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1828800"/>
            <a:ext cx="6019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(s)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(pl)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y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2438280" y="1828800"/>
            <a:ext cx="4343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(informal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438280" y="1828800"/>
            <a:ext cx="4191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r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(formal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828800" y="27432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le-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scul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81080" y="2819520"/>
            <a:ext cx="5257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981080" y="243828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981080" y="28954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905120" y="274320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c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905120" y="26668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noy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5120" y="27432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i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ai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762120" y="1828800"/>
            <a:ext cx="76960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pleine a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380880" y="1828800"/>
            <a:ext cx="81536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 mais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pleine a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qu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sess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you w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ur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838080" y="1295280"/>
            <a:ext cx="7543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s, if fir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wash the c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914400" y="20574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of th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can’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609480" y="1828800"/>
            <a:ext cx="7696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’s not possi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tonigh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066680" y="1828800"/>
            <a:ext cx="70106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you have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n your ro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43000" y="1828800"/>
            <a:ext cx="6934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r the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b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143000" y="2819520"/>
            <a:ext cx="7467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housewo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cu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tch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ttle si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762120" y="1371600"/>
            <a:ext cx="74674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the dish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838080" y="1600200"/>
            <a:ext cx="74678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the sho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762120" y="1143000"/>
            <a:ext cx="7696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h the c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81080" y="23623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lk the do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762120" y="1600200"/>
            <a:ext cx="7772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o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tra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1219320"/>
            <a:ext cx="76201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w the la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auv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that O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you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i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une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981080" y="220968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12952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- hea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838080" y="12952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amille-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amille-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êt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 p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-b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uva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ranslation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762120" y="990720"/>
            <a:ext cx="76197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y cousins are fat and shy,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ut they love to wash the dog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s cousins sont gr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t timides, mais ils ador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ver le chien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0-04-24T19:04:38Z</dcterms:modified>
  <cp:revision>39</cp:revision>
  <dc:subject/>
  <dc:title>No Slide Title</dc:title>
</cp:coreProperties>
</file>